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BD7C-0A92-4437-BEC1-557313CFC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C5F6-2809-4650-A282-08A7B0372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85F6-D1F5-4B9C-9DC5-1D6A98AD5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FAD9-68C3-49D5-9FF1-2C2D41B19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C2DA-64A6-439A-9A54-0E9E8DAA9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B5F0-1DC5-4A4D-BF29-82A4369F3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1233-EBF4-4720-AA79-6EDA8FF88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0B9C-1B22-42A3-9C88-0C8B587BB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F6D5-2185-4912-9F63-09723B77F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4427-EE9A-4B52-BE74-0613C64A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C3F4-4756-4439-92E9-0FAFE6B8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901C-D134-48D9-A038-8AA87E55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938E5-74B8-48E4-B7AF-4A39DB3BE2E6}" type="slidenum"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Keine An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Keine An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Spez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inzeln einble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2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Spez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in- und abble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2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9" dur="1" fill="hold"/>
                                  <p:tgtEl>
                                    <p:spTgt spid="6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Spez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in- und abble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2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4" dur="1" fill="hold"/>
                                  <p:tgtEl>
                                    <p:spTgt spid="6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Spez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Verblassend ro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Spez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Verblassend ro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Spez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Verblassend zo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5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Spez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Verblassend zo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5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1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Spez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ynamisch unterstreic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6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Spez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ynamisch unterstreic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Spez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uflö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5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Keine An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Keine An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Spez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uflö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5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Spez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litzl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50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1" dur="250" autoRev="1" fill="hold"/>
                                        <p:tgtEl>
                                          <p:spTgt spid="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Spez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litzl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50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250" autoRev="1" fill="hold"/>
                                        <p:tgtEl>
                                          <p:spTgt spid="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Spez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ighl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indefinite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18" dur="indefinite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Spez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ighl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indefinite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28" dur="indefinite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Spez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Lin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100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10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Spez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Lini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60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5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Spez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o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Spez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o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Angemess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ufsteig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10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Spez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rschei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Angemess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ufsteig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10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Angemess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bsteig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Angemess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bsteig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Angemess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Komprimi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100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10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Angemess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Komprimi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100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10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Angemess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leg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10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5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Angemess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leg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10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5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Angemess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rheb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100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898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10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898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Angemess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rheb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100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898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10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898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Angemess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ückwärts anze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10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5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Spez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rschei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Angemess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ückwärts anze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10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10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Angemess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oti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5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dur="5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Angemess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oti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5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Angemess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ntfal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Angemess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ntfal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Angemess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Z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5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5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Angemess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Z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5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5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Aufreg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roßer Ti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200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768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2" dur="768" fill="hold"/>
                                        <p:tgtEl>
                                          <p:spTgt spid="1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4" dur="768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6" dur="768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dur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Aufreg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roßer Ti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200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768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2" dur="768" fill="hold"/>
                                        <p:tgtEl>
                                          <p:spTgt spid="1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4" dur="768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6" dur="768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Aufreg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pr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dur="200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Spez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rscheinen und abble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" dur="1" fill="hold"/>
                                  <p:tgtEl>
                                    <p:spTgt spid="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Aufreg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pr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200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Aufreg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bspa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dur="1500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dur="1500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5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5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Aufreg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bspa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1500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dur="1500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5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5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Aufreg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38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9" dur="2000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640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Aufreg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46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dur="1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Aufreg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chwim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0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dur="100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8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dur="10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Aufreg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chwim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0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dur="100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8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dur="10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Aufreg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ut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0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95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dur="10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898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Aufreg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ut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0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709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dur="10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898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Aufreg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prossenr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0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dur="5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Spez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rscheinen und abble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" dur="1" fill="hold"/>
                                  <p:tgtEl>
                                    <p:spTgt spid="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Aufreg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prossenr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0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dur="5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Aufreg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ebogener Ti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0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dur="200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dur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Aufreg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ebogener Ti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0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dur="200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dur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Aufreg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umerang und bee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0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dur="100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dur="5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dur="200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3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dur="50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0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Aufreg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umerang und bee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0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dur="100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dur="5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dur="200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5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dur="50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2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Aufreg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achsen und bee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0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dur="50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dur="449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57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58" dur="500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dur="500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dur="50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Aufreg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achsen und bee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0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dur="50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dur="449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5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86" dur="500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dur="500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dur="50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Aufreg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Faden und bee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0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dur="50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dur="5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dur="500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dur="50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Aufreg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Faden und bee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0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dur="50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dur="5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dur="500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dur="50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Spez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lles einble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Spez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lles einble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Spez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inzeln einble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2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3-18T03:10:57Z</dcterms:modified>
  <cp:revision>0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1</vt:r8>
  </property>
  <property fmtid="{D5CDD505-2E9C-101B-9397-08002B2CF9AE}" pid="3" name="Version">
    <vt:r8>10</vt:r8>
  </property>
</Properties>
</file>